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4.jpeg" ContentType="image/jpeg"/>
  <Override PartName="/ppt/media/image6.gif" ContentType="image/gif"/>
  <Override PartName="/ppt/media/image7.gif" ContentType="image/gi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46E-8493-4283-BE9C-A407A6E1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777-53B3-415F-B124-D19DED76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358-6DD9-4269-96F1-2689AD8D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034-F982-4481-9957-0D33E4EF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EB1-57A6-4B36-AD9A-A925C7D7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0CB-39F1-4B12-B01C-B915A514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EA0-D03E-4DBE-B401-4059CC50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059-91E7-4FF3-A864-FA248AED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EAE-07D8-4A97-B2FE-ADFC9ECA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312-5B2A-4D12-B3F9-8C61EA00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B55-1ED2-48DF-9CBA-E9674B14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EB5-A5D1-4AFC-B087-6BED5D95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6AE8-DA1C-4FBD-91E4-0B2772468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1628640"/>
            <a:ext cx="4753080" cy="145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964ac4">
                        <a:alpha val="35294"/>
                      </a:srgbClr>
                    </a:gs>
                    <a:gs pos="100000">
                      <a:srgbClr val="803fa7"/>
                    </a:gs>
                  </a:gsLst>
                  <a:lin ang="5400000"/>
                </a:gradFill>
                <a:latin typeface="Book Antiqua"/>
              </a:rPr>
              <a:t>How to keep the sewage clean</a:t>
            </a:r>
            <a:endParaRPr b="0" lang="en-US" sz="2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64ac4">
                      <a:alpha val="35294"/>
                    </a:srgbClr>
                  </a:gs>
                  <a:gs pos="100000">
                    <a:srgbClr val="803fa7"/>
                  </a:gs>
                </a:gsLst>
                <a:lin ang="5400000"/>
              </a:gra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64ac4">
                      <a:alpha val="35294"/>
                    </a:srgbClr>
                  </a:gs>
                  <a:gs pos="100000">
                    <a:srgbClr val="803fa7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1908360" cy="1911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80360" y="7650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219640" y="5229360"/>
            <a:ext cx="2246400" cy="1271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5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3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en bad things enters the sea it can kill the animal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16360" y="4292640"/>
            <a:ext cx="3349800" cy="2187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5 -0.018 -0.02131 -0.023 -0.02131 C -0.054 -0.02131 -0.086 0.14516 -0.086 0.31164 C -0.086 0.22774 -0.102 0.14517 -0.117 0.14517 C -0.133 0.14517 -0.148 0.22907 -0.148 0.31164 C -0.148 0.27035 -0.156 0.22774 -0.164 0.22774 C -0.172 0.22774 -0.18 0.26903 -0.18 0.31164 C -0.18 0.29033 -0.184 0.27035 -0.188 0.27035 C -0.192 0.27035 -0.196 0.29166 -0.196 0.31164 C -0.196 0.30099 -0.198 0.29033 -0.2 0.29033 C -0.201 0.29033 -0.204 0.30098 -0.204 0.31164 C -0.204 0.30631 -0.205 0.30099 -0.206 0.30099 C -0.206 0.29966 -0.208 0.30632 -0.208 0.31164 C -0.208 0.30898 -0.208 0.30631 -0.209 0.30631 C -0.209 0.30764 -0.21 0.30897 -0.21 0.31164 C -0.21 0.31031 -0.21 0.30898 -0.21 0.30764 C -0.211 0.30764 -0.211 0.30897 -0.211 0.3103 C -0.212 0.3103 -0.212 0.30897 -0.212 0.30764 C -0.213 0.30764 -0.213 0.30897 -0.213 0.3103 E">
                                      <p:cBhvr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cc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t also can poison people who eat the shellfish which live in the poison river so don’t put pollute th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32720" y="907920"/>
            <a:ext cx="1842840" cy="174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27640" y="4365720"/>
            <a:ext cx="237636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t pollutes the river like the news on 17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May 2009 that poisons enter Parramatta River so don’t just let the poisons d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72360" y="476280"/>
            <a:ext cx="133956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24360" y="3432240"/>
            <a:ext cx="2868840" cy="3425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2:56:57Z</dcterms:created>
  <dc:creator>nicholais.lang</dc:creator>
  <dc:description/>
  <dc:language>en-US</dc:language>
  <cp:lastModifiedBy>nicholais.lang</cp:lastModifiedBy>
  <dcterms:modified xsi:type="dcterms:W3CDTF">2009-05-21T03:39:13Z</dcterms:modified>
  <cp:revision>3</cp:revision>
  <dc:subject/>
  <dc:title>Slide 1</dc:title>
</cp:coreProperties>
</file>